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D03-2460-4F5A-BCB3-2EA1B2F6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F9B-3259-45DF-A420-B5F0FDE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FF276-893F-4CA5-95C8-6AAFB51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12B3D-0FC5-4AA3-8C38-71F7BB0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CC6C-3D04-44CE-88FA-83DB83BA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8E523-A454-4FD2-B894-EC4AAF3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11C8-00A3-4098-BB22-BC3C163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AD78D-DC5A-440B-9729-E23D896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61B6A-A465-4EB6-A6AF-1910E51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345D8-380A-4736-B487-0F8DBC5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B6089-7062-4A11-8319-9AF2A3D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9546-3982-4E29-93D6-27932F4C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A45-38D3-43CC-A041-9076C4B4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981A-CB8A-4DDE-9A93-AB3A08E9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5FD23-2AF0-41EE-A28F-5F39F15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DA757-F5F4-479E-835E-A6555C5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BF737-DF8E-4D86-AA24-0E46970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4B3FF-883A-4CF3-ACD3-FC02EF4D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D39F0-C6E1-432B-B527-86BAA64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A647C-BC3E-441D-8C34-C6CD662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F158-3867-4958-AB24-5F50FF8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9EC8D-F11D-4398-AFCE-AAAD1C5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DB882-9FA7-4065-BCC6-CF0A48B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A50-A9AE-4B06-873A-F912C856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CA17-0836-4491-9BFF-2EFE7AE4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AD0-1B5F-4A48-B977-D9E96D13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80E2-3B29-4532-A91B-2D7135F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FB5-FF71-4E8F-99F5-4CD50AD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97D4-A896-498D-9853-486B575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993-2D87-4051-A0AD-F654D40E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B99B-D980-41AE-A385-22D16D30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9B0-3D01-47EB-8A48-BEE9B40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D65-03DF-4B95-8B34-817924B5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CA6D-5187-4B1B-A67A-12C37F54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B6A7-D59F-42E7-ACB2-B7E41EB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1B87-7925-4BFA-B790-8639726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F01-1ED7-4BCF-AD85-D7015919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C1E-C9F4-4665-A6CB-19269B92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3D08-EBE8-4BC1-8EC8-EF8C3FEA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4E9F-C2B4-468F-88EC-F61D56B1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CF9F-674C-407E-84F7-6F242FC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88CC-3C00-4A5D-BB26-163C3EA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29B9-C590-4349-9583-540A136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8C5-4C06-4D42-AEE8-3DAD8318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9658-9F03-4CA3-A811-FAB1170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1AB8-5C7B-4FBF-8F66-BEF3F5D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6E50-6D04-46C7-BDB7-326A927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2CBD-754C-4338-A56C-AF06C4E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058D-8287-4572-95FF-47008B77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7679-7A1C-4E49-9866-44B01CA7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B82E-6EB2-4FA1-8E90-C88CB378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BDF0-D7C1-4F5C-933B-8C8556D6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1B32-47CD-42F2-B40A-AF72789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7E03-B400-4671-A3AB-9F2B3FEF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6BD-058E-49B0-9542-CADEA70F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BC0C-7694-44A9-A004-2C082F0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10E8-9CD7-44FF-8CE6-8B4A52CA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A0BD-1B65-462F-A8FA-2830E3F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088F-0C10-4C95-B261-ED1E969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A6BF-87CC-4DB2-9194-EB2BCAD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20D1-2D41-47DC-A55E-4AEEB8C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EC0E-7DA1-4D88-902D-EDFCD911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FA84-FBF8-4BA3-AE6C-3642FD2A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9B99-C67B-4764-8998-62735DFC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66BE7-9BF9-4C27-A900-0CC9FF8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8C3-266D-4B4D-B2DC-69FD796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C26D-7E61-4C1F-88F6-68E42EA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ABB0-A469-4A30-AECD-9B379AA4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AE98-637D-4247-86B1-17606B3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41D6-538E-44DC-9FFA-9CBA5D5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3EF3-AB81-4E3D-A6B3-3AA0AB40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2F46-9341-4A5B-A588-7DCB98C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3351A-7626-4686-998C-D1D287E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7F48-912E-46ED-B329-3BB40FD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ED76-AB3C-4B7E-8473-D877F69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A2A1-E079-43D9-B621-D879B8BA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9FE-E7F7-48C8-8D04-0F351B4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D1CF-B7FE-4EED-A1CB-0CCF30B8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60B6-996B-4035-83C2-468F4F9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5AB5-9C00-48AE-BACB-C36F8E4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E591-C871-41F7-B039-33521C7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C6EA-5B74-4406-BEE3-613A0CC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AC4F-F46B-4409-BC3C-2FEE4382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48E8-AEAC-4E5F-BFD9-06B0DC2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C7672-47AD-46E2-883F-773A320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BD07-1AD6-4F80-BCE0-F1CF23D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4FCE-4062-40F1-A691-E5AA6B6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080-0111-4292-9F6D-BBA8A81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5708-0D1E-4396-8E92-033188BB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290B-FC92-46B2-AEDC-1D316ABD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931F-D49E-4EF3-B905-02D8B5A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A7226-F74D-40BE-A293-D1B504D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C6C4A4-1793-4BD4-8520-F614FCC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79DD7A-05F1-4B54-8948-EE370747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4DC18-C5D7-467C-B8E3-740688BF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A5580-A4FC-4CDB-A986-0505661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78F98-820B-4F04-BD8A-FC140E0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9BEC93-8CC7-4561-B062-6813E93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2F8-B3EF-4CF4-8E9F-31F09B1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68BFA0-105E-4DFD-8577-CD76E428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D0AACC-26F3-4151-81FC-AED6FED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BD1B83-24DB-4F03-A949-F1AC7AD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522BC-35D7-47DB-B13A-2FA83144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0DF7B-50BC-4D73-A0D0-E30A70C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0A8E4-4FB3-482B-B9F3-C889556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4A13F-F5DE-47DE-8B30-D22C6A59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43427-0801-42F5-A925-FE7C505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B7937-8487-4183-82C9-F07138D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46F3-E26A-40A6-8594-96E9804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954-3F73-4757-B961-D0D6C30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2B61-5A2D-43A4-B09B-5F707967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00CF-07CE-411B-A2F9-408D509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9DC20-88BA-4FE6-AEF7-1A0DE89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F6C7-0D68-4709-AAC2-35058B0B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E0EA-D13F-422B-B1E0-D2F607E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C12C-37CD-4DD3-993F-D96A5B44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96B3-4B26-4385-8995-23AE34A2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C1597-C2EE-4BE0-92D2-337B7A93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B0A1B-BEC9-49A6-9E7F-08ED6043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F658E-DB22-473B-9D42-6126F8C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6F3-569A-416E-BB96-EC352910DEA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5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6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3AA-7494-4F3C-8578-8E2F651DAE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B04-6EA6-4A5F-B877-0BD0A2AA3A4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321-6BC0-445F-88DE-EA08D81FB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87EA-576D-4FAA-AB34-7D7F471E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8CC-79E0-4B28-B668-7F0F06C01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432-37EA-4E1A-8A44-CE11467E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6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E11-2B89-4344-B1D2-701C4E3AD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2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315-6223-4368-AE86-B41788408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8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0F45-C4AB-420F-A11C-EB2CC9D59D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enry’s Freedom Box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old by:Marcell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" descr="Henry’s F...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1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wasn’t sure how old he wa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4114800" y="5089680"/>
            <a:ext cx="2200320" cy="176832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6.93642E-007 C -0.00799 -0.0007 -0.01598 -0.0007 -0.02379 -0.00231 C -0.02883 -0.00347 -0.03317 -0.00856 -0.03803 -0.01064 C -0.05001 -0.01596 -0.06251 -0.01596 -0.07449 -0.02127 C -0.08907 -0.02775 -0.09775 -0.03283 -0.11268 -0.03607 C -0.11997 -0.03931 -0.12761 -0.04116 -0.1349 -0.04439 C -0.14758 -0.05896 -0.15799 -0.06752 -0.17449 -0.07191 C -0.1856 -0.08648 -0.19393 -0.10127 -0.20955 -0.1059 C -0.22622 -0.12324 -0.21858 -0.11653 -0.23178 -0.12694 C -0.28178 -0.12093 -0.22101 -0.12763 -0.33334 -0.12278 C -0.34931 -0.12208 -0.38091 -0.1163 -0.38091 -0.1163 C -0.38508 -0.11491 -0.38924 -0.11307 -0.39358 -0.11214 C -0.40001 -0.11075 -0.41268 -0.10798 -0.41268 -0.10798 C -0.44827 -0.09226 -0.42292 -0.1015 -0.50157 -0.10359 C -0.51789 -0.10659 -0.53021 -0.10867 -0.54758 -0.11006 C -0.55747 -0.11376 -0.56667 -0.11838 -0.57622 -0.12278 C -0.58455 -0.12648 -0.58195 -0.12347 -0.59202 -0.12694 C -0.60747 -0.13226 -0.62049 -0.13942 -0.63646 -0.14174 C -0.64289 -0.1452 -0.64827 -0.14728 -0.654 -0.15237 C -0.66928 -0.19307 -0.66841 -0.23399 -0.67136 -0.27908 C -0.67292 -0.30266 -0.67917 -0.32717 -0.6856 -0.3489 C -0.68681 -0.36463 -0.68612 -0.37087 -0.69202 -0.38266 C -0.69341 -0.39931 -0.69688 -0.41295 -0.70001 -0.42913 C -0.70053 -0.44416 -0.70938 -0.50544 -0.69046 -0.51376 C -0.68455 -0.52601 -0.66303 -0.54937 -0.65226 -0.55399 C -0.61737 -0.5526 -0.58247 -0.5526 -0.54758 -0.54983 C -0.54601 -0.5496 -0.52431 -0.53989 -0.52223 -0.53919 C -0.50417 -0.53364 -0.48612 -0.52786 -0.46824 -0.52231 C -0.45921 -0.51954 -0.45192 -0.51399 -0.44289 -0.51168 C -0.42813 -0.51307 -0.41285 -0.51145 -0.39844 -0.51584 C -0.39376 -0.51723 -0.39011 -0.52254 -0.3856 -0.52439 C -0.3698 -0.5385 -0.35383 -0.5415 -0.3349 -0.54335 C -0.32483 -0.54775 -0.31355 -0.55006 -0.30313 -0.55191 C -0.28004 -0.56208 -0.25435 -0.5563 -0.23004 -0.56023 C -0.20001 -0.57387 -0.23369 -0.55977 -0.19514 -0.57087 C -0.18716 -0.57318 -0.17917 -0.57619 -0.17136 -0.57942 C -0.16754 -0.58104 -0.16407 -0.58428 -0.16025 -0.58567 C -0.15504 -0.58775 -0.14949 -0.58775 -0.14445 -0.58983 C -0.14289 -0.59052 -0.14115 -0.59122 -0.13959 -0.59191 C -0.129 -0.58728 -0.12379 -0.58058 -0.11424 -0.57295 C -0.09896 -0.56046 -0.0823 -0.55006 -0.0698 -0.53272 C -0.06372 -0.53318 -0.03542 -0.53572 -0.02692 -0.53711 C -0.01719 -0.53873 -0.00851 -0.54382 0.00156 -0.54544 C 0.01371 -0.54474 0.02604 -0.54451 0.03819 -0.54335 C 0.03975 -0.54312 0.04288 -0.54127 0.04288 -0.54127 E">
                                      <p:cBhvr>
                                        <p:cTn id="12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4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4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00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th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 and his brothers and sisters worked in the big house where the master li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000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50000">
              <a:srgbClr val="fae3b7"/>
            </a:gs>
            <a:gs pos="100000">
              <a:srgbClr val="fbe4a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’s master had been good to him and his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000" fill="hold"/>
                                        <p:tgtEl>
                                          <p:spTgt spid="1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the master called for Henry and his mother. Henry's master was very 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000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nry’s doctor let him free and sent him to Philadelph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6934320" y="4919760"/>
            <a:ext cx="2209680" cy="193824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2209680" y="5254560"/>
            <a:ext cx="3719520" cy="16034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4104E-006 C -0.00817 -0.00693 -0.00435 -0.00948 -0.01442 -0.01271 C -0.02675 -0.03468 -0.05192 -0.06774 -0.07154 -0.07607 C -0.08143 -0.08485 -0.08647 -0.0978 -0.09376 -0.10982 C -0.10157 -0.12254 -0.11234 -0.13202 -0.12067 -0.14381 C -0.12397 -0.15722 -0.11963 -0.14265 -0.12709 -0.15653 C -0.13768 -0.17618 -0.12223 -0.15422 -0.13508 -0.17133 C -0.13907 -0.19306 -0.13577 -0.18335 -0.14445 -0.20092 C -0.14741 -0.21156 -0.14966 -0.22265 -0.154 -0.2326 C -0.15852 -0.243 -0.15661 -0.23468 -0.16043 -0.24739 C -0.16425 -0.26034 -0.16563 -0.27329 -0.1731 -0.28323 C -0.17536 -0.29248 -0.17831 -0.29896 -0.18265 -0.30659 C -0.18508 -0.31976 -0.18977 -0.33317 -0.19532 -0.3445 C -0.19741 -0.35306 -0.19949 -0.36046 -0.20331 -0.36786 C -0.20452 -0.37433 -0.20695 -0.38034 -0.208 -0.38682 C -0.20973 -0.39653 -0.20991 -0.40647 -0.21112 -0.41641 C -0.21216 -0.44346 -0.20886 -0.45317 -0.21754 -0.47144 C -0.2198 -0.48323 -0.22362 -0.49225 -0.22709 -0.50312 C -0.23074 -0.51398 -0.23195 -0.52578 -0.23508 -0.53687 C -0.23925 -0.57109 -0.24254 -0.60878 -0.22223 -0.63422 C -0.21129 -0.66335 -0.22727 -0.62289 -0.21442 -0.64901 C -0.21355 -0.65086 -0.2139 -0.65364 -0.21286 -0.65526 C -0.20227 -0.67213 -0.20088 -0.6756 -0.18734 -0.67861 C -0.17727 -0.683 -0.16737 -0.68901 -0.1573 -0.69341 C -0.15279 -0.70173 -0.14706 -0.70589 -0.14133 -0.71237 C -0.13959 -0.71422 -0.13855 -0.71699 -0.13664 -0.71884 C -0.13473 -0.72069 -0.13247 -0.72185 -0.13022 -0.723 C -0.12709 -0.72462 -0.12067 -0.72716 -0.12067 -0.72716 C -0.09845 -0.72647 -0.07622 -0.72763 -0.054 -0.72508 C -0.04862 -0.72439 -0.04497 -0.71676 -0.03977 -0.71445 C -0.0297 -0.71005 -0.01963 -0.70659 -0.00956 -0.70173 C 0.00068 -0.68832 0.00971 -0.67445 0.02049 -0.66173 C 0.02361 -0.65803 0.02917 -0.64901 0.03333 -0.64693 C 0.03629 -0.64554 0.03958 -0.64554 0.04271 -0.64485 C 0.12344 -0.65086 0.10243 -0.64046 0.14115 -0.65965 C 0.14601 -0.66612 0.14983 -0.67398 0.15556 -0.67861 C 0.16962 -0.68971 0.18385 -0.70312 0.19358 -0.72092 C 0.19635 -0.73896 0.1974 -0.74104 0.19514 -0.76323 C 0.19271 -0.78843 0.1658 -0.80832 0.15069 -0.81803 C 0.14184 -0.83052 0.15608 -0.81202 0.13958 -0.8245 C 0.13802 -0.82566 0.1375 -0.82867 0.13646 -0.83075 C 0.1349 -0.83375 0.13316 -0.83653 0.1316 -0.8393 C 0.12778 -0.85965 0.13212 -0.86705 0.14601 -0.87306 C 0.16719 -0.87167 0.18837 -0.8719 0.20938 -0.8689 C 0.21563 -0.86797 0.22622 -0.85687 0.2316 -0.8541 C 0.23993 -0.84994 0.25156 -0.84878 0.26024 -0.84554 C 0.26285 -0.83838 0.26389 -0.8319 0.26823 -0.82659 C 0.27222 -0.81572 0.27778 -0.79283 0.27778 -0.79283 C 0.27865 -0.78543 0.28194 -0.77896 0.28247 -0.77156 C 0.28385 -0.74913 0.28212 -0.72647 0.28403 -0.70404 C 0.28438 -0.70104 0.28715 -0.69965 0.28889 -0.69757 C 0.29566 -0.68971 0.29948 -0.68601 0.30469 -0.67653 C 0.30729 -0.66242 0.30972 -0.65664 0.32049 -0.65317 C 0.33004 -0.65387 0.33958 -0.65341 0.34913 -0.65526 C 0.35174 -0.65572 0.35504 -0.66196 0.35712 -0.66381 C 0.36563 -0.6719 0.37431 -0.68439 0.38403 -0.68924 C 0.38698 -0.69526 0.39045 -0.70265 0.39045 -0.71028 E">
                                      <p:cBhvr>
                                        <p:cTn id="41" dur="2000" fill="hold"/>
                                        <p:tgtEl>
                                          <p:spTgt spid="1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6994E-006 C -0.00521 -0.00162 -0.01059 -0.00231 -0.0158 -0.00416 C -0.02222 -0.00647 -0.02882 -0.00879 -0.0349 -0.01272 C -0.03698 -0.0141 -0.03906 -0.01595 -0.04132 -0.01688 C -0.04392 -0.01803 -0.04653 -0.01803 -0.04913 -0.01896 C -0.05399 -0.02081 -0.06354 -0.02543 -0.06354 -0.02543 C -0.06701 -0.0289 -0.07136 -0.03029 -0.07465 -0.03376 C -0.07622 -0.03538 -0.07656 -0.03838 -0.07778 -0.04023 C -0.08351 -0.04902 -0.08924 -0.05942 -0.09531 -0.06751 C -0.10451 -0.08 -0.09549 -0.0615 -0.10642 -0.08023 C -0.10833 -0.08347 -0.10972 -0.08717 -0.11111 -0.09087 C -0.11181 -0.09295 -0.11129 -0.09572 -0.11267 -0.09711 C -0.11545 -0.09965 -0.1191 -0.09965 -0.12222 -0.1015 C -0.13351 -0.10821 -0.14445 -0.11561 -0.15556 -0.12254 C -0.17622 -0.13572 -0.19392 -0.15723 -0.2158 -0.16694 C -0.22448 -0.1778 -0.22969 -0.17827 -0.24132 -0.1859 C -0.26076 -0.19884 -0.24254 -0.19168 -0.25712 -0.19653 C -0.27969 -0.21665 -0.25642 -0.19676 -0.27309 -0.20925 C -0.27604 -0.21156 -0.27778 -0.21619 -0.2809 -0.2178 C -0.28542 -0.22012 -0.29063 -0.21988 -0.29531 -0.22197 C -0.30122 -0.22728 -0.30764 -0.22936 -0.31424 -0.2326 C -0.3217 -0.23191 -0.32917 -0.23191 -0.33646 -0.23029 C -0.34531 -0.22821 -0.35451 -0.21896 -0.36198 -0.21341 C -0.37083 -0.20671 -0.38125 -0.20393 -0.39045 -0.19861 C -0.40243 -0.19168 -0.41267 -0.18173 -0.42535 -0.17757 C -0.43924 -0.16509 -0.45451 -0.16023 -0.46979 -0.15214 C -0.48472 -0.15353 -0.49792 -0.15584 -0.51267 -0.15861 C -0.53056 -0.16647 -0.54792 -0.17549 -0.56667 -0.17965 C -0.58576 -0.18821 -0.60538 -0.20925 -0.62222 -0.22405 C -0.62413 -0.22775 -0.62708 -0.23052 -0.62865 -0.23468 C -0.6349 -0.2511 -0.6257 -0.23653 -0.63333 -0.2474 C -0.63715 -0.26751 -0.6316 -0.24301 -0.63976 -0.26428 C -0.64271 -0.27214 -0.64323 -0.27884 -0.64757 -0.2874 C -0.65 -0.29757 -0.65556 -0.30289 -0.66198 -0.30867 C -0.6691 -0.32324 -0.66458 -0.31977 -0.67309 -0.32347 C -0.68142 -0.34012 -0.67049 -0.32 -0.6809 -0.33387 C -0.6875 -0.34266 -0.68108 -0.33827 -0.68733 -0.34867 C -0.68941 -0.35214 -0.69323 -0.35376 -0.69531 -0.35723 C -0.7 -0.36462 -0.70538 -0.37272 -0.70955 -0.38058 C -0.71528 -0.39098 -0.72014 -0.40254 -0.72691 -0.41225 C -0.72865 -0.4185 -0.7309 -0.42543 -0.73333 -0.43121 C -0.73524 -0.43561 -0.73976 -0.44393 -0.73976 -0.44393 C -0.74167 -0.45387 -0.74497 -0.4696 -0.74913 -0.47769 C -0.75313 -0.49827 -0.75087 -0.48925 -0.75556 -0.5052 C -0.75868 -0.5526 -0.75799 -0.53225 -0.75556 -0.61087 C -0.75504 -0.62775 -0.75573 -0.62428 -0.75087 -0.63422 C -0.74861 -0.64509 -0.74722 -0.64416 -0.74132 -0.6511 C -0.73056 -0.66405 -0.73542 -0.66335 -0.72379 -0.66798 C -0.71962 -0.6696 -0.71111 -0.67214 -0.71111 -0.67214 C -0.70504 -0.68069 -0.69445 -0.68254 -0.68576 -0.68486 C -0.66979 -0.68416 -0.65399 -0.68393 -0.63802 -0.68277 C -0.62795 -0.68208 -0.62049 -0.66867 -0.61111 -0.66382 C -0.6007 -0.64994 -0.60504 -0.65434 -0.59201 -0.64902 C -0.58872 -0.64763 -0.58247 -0.64462 -0.58247 -0.64462 C -0.57483 -0.6296 -0.56076 -0.63769 -0.54913 -0.64254 C -0.54445 -0.64185 -0.53958 -0.64162 -0.5349 -0.64046 C -0.5316 -0.63954 -0.52535 -0.6363 -0.52535 -0.6363 C -0.49306 -0.63699 -0.46076 -0.6363 -0.42865 -0.63838 C -0.42708 -0.63838 -0.4257 -0.64069 -0.42535 -0.64254 C -0.42118 -0.66289 -0.42379 -0.66058 -0.41754 -0.67861 C -0.41007 -0.70035 -0.39809 -0.71699 -0.38576 -0.73341 C -0.3842 -0.74012 -0.3842 -0.75121 -0.3809 -0.75676 C -0.37014 -0.77457 -0.35781 -0.7889 -0.34132 -0.79491 C -0.30017 -0.79214 -0.31736 -0.79538 -0.29688 -0.78636 C -0.29445 -0.78312 -0.29097 -0.78127 -0.28889 -0.7778 C -0.2875 -0.77549 -0.28715 -0.77202 -0.28576 -0.76948 C -0.2849 -0.76786 -0.28333 -0.76694 -0.28247 -0.76532 C -0.27795 -0.75792 -0.27743 -0.75168 -0.27136 -0.74613 C -0.26892 -0.73942 -0.26823 -0.73711 -0.26511 -0.73133 C -0.26198 -0.72555 -0.25556 -0.71445 -0.25556 -0.71445 C -0.25504 -0.71098 -0.25538 -0.70705 -0.25399 -0.70382 C -0.24531 -0.68324 -0.22031 -0.67977 -0.20469 -0.67422 C -0.2033 -0.67283 -0.18941 -0.65942 -0.18576 -0.65318 C -0.17743 -0.63838 -0.18542 -0.64555 -0.17465 -0.63838 C -0.16441 -0.64162 -0.15504 -0.64324 -0.14445 -0.64462 C -0.13333 -0.64786 -0.13889 -0.64578 -0.12691 -0.6511 C -0.12535 -0.65179 -0.12222 -0.65318 -0.12222 -0.65318 C -0.11823 -0.66127 -0.1191 -0.65688 -0.1191 -0.6659 E">
                                      <p:cBhvr>
                                        <p:cTn id="45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00" fill="hold"/>
                                        <p:tgtEl>
                                          <p:spTgt spid="1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21:55Z</dcterms:created>
  <dc:creator>test</dc:creator>
  <dc:description/>
  <dc:language>en-US</dc:language>
  <cp:lastModifiedBy>test</cp:lastModifiedBy>
  <dcterms:modified xsi:type="dcterms:W3CDTF">2011-03-28T13:43:24Z</dcterms:modified>
  <cp:revision>9</cp:revision>
  <dc:subject/>
  <dc:title>Henry’s Freedom Box</dc:title>
</cp:coreProperties>
</file>